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E48C-3AED-4459-9F93-52DEFB3FB1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4C9-F4F9-4B54-B400-95707424C3E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35FE-A566-4B3E-B875-4B6ADA9F99A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D44AB-DC5C-401F-B5AC-05635E28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2F56B-AF3D-4D09-8802-3CDC1D31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14D16-1798-4D7B-B5F6-97B61431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A1037-A385-434F-9389-2C67B07F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BD4F5-C882-40C4-B228-F9B7E122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D6B4A-AE9F-44C7-B9EC-E551C1E6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C82C8-4506-46C9-8A4C-AF286AE4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33E87-B15C-4138-BD3F-EC8D08F6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62151-D78D-4DC0-A8A7-9B1C35D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6844C-6BEA-47D7-86A1-3DEE8803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F7264-576C-4D4E-8A46-38C851BD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B2526-97D1-403D-94D1-4B3F4CD0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ED037-3D6E-456D-9505-9CC29ABA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E192D-E808-4E86-B059-73D43EE9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D4017-132F-4D13-A19C-0D9DBEFA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4FAD5C-91C5-49BE-944C-970785A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0AAC8-30FE-4ACC-814B-67CB5B68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F9EB6C-75B9-446D-9F12-CA626FE5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3B5F4-1807-46B4-A9EB-85225B77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7FFF8-02D4-41B4-A59B-FCB7E5A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3A2ED-2B48-4D8E-A37D-5CA3031B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F0A34-A993-448E-A7CC-F420D9B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904A2-FFF8-4927-A184-E1E535B0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188E9-1726-4950-9E82-1DD32674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5A79-86E4-45EC-AE5B-E6D66AC7C01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C8B3-9F0F-41EC-A7D6-E5A59C4E2A01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FA16-DD19-4B40-B074-8F9E811D759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FF93-17C0-46BF-926F-3DF0EB5E596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2A1B-432C-4519-958C-AF18F9A7EB0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D7AE-1CB6-4223-B6C0-BEF5AB1C9F3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DF21-CCA5-468C-A443-FDA98336CF6E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8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MMSE-K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5-8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 치매척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5-166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6-167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68-17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옷이나 팔찌에 표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망상에 대비해 예비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8-179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부 내용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79-181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6000"/>
              <a:chOff x="285480" y="642600"/>
              <a:chExt cx="8644320" cy="525600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800"/>
                <a:ext cx="8644320" cy="2683800"/>
                <a:chOff x="285480" y="321480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80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320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에 관한 전문지식 갖춘 상담자가 담당하는 것이 바람직함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572680" cy="1992600"/>
              <a:chOff x="0" y="1139760"/>
              <a:chExt cx="857268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21556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질성 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organic 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2960"/>
            <a:chOff x="0" y="0"/>
            <a:chExt cx="9144000" cy="640296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480"/>
              <a:chOff x="285480" y="857160"/>
              <a:chExt cx="8606160" cy="257148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8720"/>
              <a:chOff x="285480" y="3504240"/>
              <a:chExt cx="8712360" cy="28987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2280"/>
                <a:ext cx="8606880" cy="2380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96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APA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나타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800"/>
              <a:ext cx="8715240" cy="5429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0:19:19Z</dcterms:modified>
  <cp:revision>27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